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512-DC61-45F1-ADD3-3E107F39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C07-B227-4B2C-A826-293E9D9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A26-6BF7-4CED-AFC6-32E785F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5B6-0910-4D1C-A02F-06A0C8FB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B5AE-81E6-4257-BD1D-9E301A5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EC0-2632-41F4-A3F2-558739F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544-0A60-40E8-9F10-2636DD54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E7D-B612-4CB6-8998-0533015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8B-99F1-4ED3-AE96-D228EB7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5A9-538C-4A58-8C52-92F275D6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88E-FF61-4908-B42F-3A1D667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0AD-8DD9-41F0-B2AA-C97F0999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B7B-FE26-4C06-B59C-C3AE695F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The Reform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Old English Text MT"/>
              </a:rPr>
              <a:t>A New Path in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2314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1941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61722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8120" y="4700520"/>
            <a:ext cx="2914560" cy="215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6858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Martin Lu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17 a young monk challenges the Roman Catholic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at Wittenberg university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d Pope does not make decisions on who goes to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wanted to reform the church=R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 about leadership &amp; worried about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h no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red by indulgences, 95 arguments known as 95 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943600" y="4808520"/>
            <a:ext cx="3200400" cy="204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372440" y="0"/>
            <a:ext cx="1771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609480"/>
            <a:ext cx="3886200" cy="513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733920" y="4732200"/>
            <a:ext cx="2819160" cy="2125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219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Martin Luther co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rch did not take him seri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d w/ Pope…verbally like Wyc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’s ideas led to new deno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first protestant deno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theranism: faith in Jesus, Bible,&amp; all believers in church not just cl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peasant re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ld English Text MT"/>
              </a:rPr>
              <a:t>Others of the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iderius 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 huma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=better people=better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d bible, good in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John Calvin &amp; Calvin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uritans &amp; Presbyteri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heology i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Martin Luther…secretly &amp; li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safety in Geneva, Switzer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rotestant 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d in predestination, worked 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gation picks leaders, led to picking political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89840" y="0"/>
            <a:ext cx="2054160" cy="28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10280" y="3200400"/>
            <a:ext cx="2133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Catholics vs. Prote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broke out fo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olic church wanted people back, council at Trent, outcome= rules &amp; sem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its = Popes agents, founder Ignatius of Loy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rbon’s (Navarre) and Huguenots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nobles in France Protestant, Catherine Me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 and Huguenot Henry IV=king, no Pa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ipped to get what he wanted 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ty year war in Czech re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ish re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reformation: took longer to change, Henry VIII, divorced/executed/died in childbirth/ divorced/ executed/ survived, excommunicated, started church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, wanted to be Catholic, 300 at the stake, nickname, followed by Elizabeth I and the Purit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49:44Z</dcterms:created>
  <dc:creator>jobert</dc:creator>
  <dc:description/>
  <dc:language>en-US</dc:language>
  <cp:lastModifiedBy>jobert</cp:lastModifiedBy>
  <dcterms:modified xsi:type="dcterms:W3CDTF">2012-05-25T15:28:23Z</dcterms:modified>
  <cp:revision>7</cp:revision>
  <dc:subject/>
  <dc:title>The Reformation</dc:title>
</cp:coreProperties>
</file>